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8DA0-1DEB-47DD-B61C-9D85B1DC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F233-1771-4394-A96B-321265B2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DAE7-3375-414C-8158-0B0672AB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A95B-E6AC-4FA3-AB23-EA420638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D34-8D5C-40F6-96A5-764DECE4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8A1A-15FE-4478-8AD6-4E3FE19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4700-E1EE-42FF-817E-35A57A4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2C0B-D042-4B73-9145-118065B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7045-3250-4D4A-A608-21F7040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E0AD-9C84-48C2-92C8-22C8F9BE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C97F-47A5-4CCC-8101-326621B0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D7FD-4CAD-40D0-A376-ABE0183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DB60-9CC4-45CE-8648-83903A9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8C16-F6AF-43B5-8557-D43E1EA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E4C-409E-4CD4-A448-5FAECF7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629-2343-45AC-BCBE-A2223EF6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C1DC-4F70-4DF3-A979-588F05C7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D583-15F7-4F11-A917-B7617B1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96B8-7306-4AD0-AAB1-334D772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3C8B-7256-45AC-80ED-1E0A918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4AC3-8C43-4A11-ADEC-60E6083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1013-9F5F-49A9-8DD4-8BEA4D6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60BC-B42A-4345-8F2A-D3F686C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883B-271D-4BE3-8729-DCE93A5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E79-CE1D-4C9C-BC5B-FB721E23C5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4215-BDAF-4553-A138-ECF6DDD9415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7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ворени са небесните книг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ъв съда на сетний час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ла, думи - явни са, виж г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Съдника н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чуй, що ни вика Спас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Готови ли сте за тоз час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съда: "Недостатъчен, лек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се изрече за в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дът е започнал от тези, що спят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часът за живит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 решение веч се взем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писаното в книги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чуй, що ни вика Спас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Готови ли сте за тоз час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съда: "Недостатъчен, лек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се изрече за в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ще устои в най-страшния тоз час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е час на разплата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й, че за вечност Господ, наш Бог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пределя заплата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чуй, що ни вика Спас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Готови ли сте за тоз час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съда: "Недостатъчен, лек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се изрече за в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30:17Z</dcterms:modified>
  <cp:revision>47</cp:revision>
  <dc:subject/>
  <dc:title>Slide 1</dc:title>
</cp:coreProperties>
</file>